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3AD52-CF2A-4FD7-BF96-E35F683F2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arriet Beecher St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incoln-Douglas Deb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incoln-Douglas Deb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ohn Brown 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7CBD-42B8-40CF-9B47-AFF6DF50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C211-1D1F-4DF7-BD23-94FFA433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F797-E2B2-4801-BFE9-8C3261D4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5089-6CD5-47CA-A733-4EDC5418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2BD0-2ADB-4B76-9996-AD1EEB41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465-7255-4837-AB77-D9099820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E6F9-9490-4DFB-BC4D-B2DD6D85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61E-D633-4CFF-B0F5-EB313578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C303-9EAC-422A-9B59-CAEAD5C5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1175-529D-47D7-A1BF-2D0EA27A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B26-88DD-41DE-9A5D-D0D96DD5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668-4D7C-444B-8BBF-59D94137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2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1A4A2-232D-45A5-A868-A325EDB521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4898880" cy="5562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30640" y="228600"/>
            <a:ext cx="390708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1219320" y="685800"/>
            <a:ext cx="1082052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216400" cy="5529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19920" y="1295280"/>
            <a:ext cx="274320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iberat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litionist newspaper published by William Lloyd Gar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3987720" cy="6043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4120" y="1676520"/>
            <a:ext cx="274320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iet Tub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er of the “Underground Railroa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754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05120" y="6858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 Turner’s Rebellion:  Virginia, 18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ederick Douglas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312444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86400" y="2133720"/>
            <a:ext cx="297180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"I would unite with anybody to do right and with nobody to do wrong.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89680" y="762120"/>
            <a:ext cx="3825720" cy="5870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64796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77920" y="304920"/>
            <a:ext cx="492948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614840" cy="510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438280" y="609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 B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38040"/>
            <a:ext cx="9144000" cy="618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18:08:13Z</dcterms:created>
  <dc:creator>chsd230</dc:creator>
  <dc:description/>
  <dc:language>en-US</dc:language>
  <cp:lastModifiedBy>Dominic Lambek</cp:lastModifiedBy>
  <dcterms:modified xsi:type="dcterms:W3CDTF">2010-02-08T15:46:47Z</dcterms:modified>
  <cp:revision>10</cp:revision>
  <dc:subject/>
  <dc:title>PowerPoint Presentation</dc:title>
</cp:coreProperties>
</file>